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8C8AD-4E9F-4A23-9686-11C67007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12B2-CD4F-40B2-8F49-A30BE3F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E704E-A15F-4317-AD1A-994865B8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59B99-8FA0-48CD-B744-4EDEC910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89FED-9F7E-4196-92DC-8C9E9CB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5FADB-5F6F-4E6E-BC77-0E59366A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B97EC-DB08-410F-8992-5189B08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914EA-C6EA-423B-933F-FCEF4402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CC408-B71E-405C-BE0C-EEAB3C27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AB14F-B75C-4CD8-9BA1-86110946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E1C07-E248-40DB-9ED0-A7120AA4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2F5EE-AC71-450D-B272-7736C298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214A-DAE6-4630-9D00-B1BB5A5C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2C8FD-25F0-482C-876F-0DB7A0A9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6B735-D00E-4F2B-80E8-FED61C3C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C365A-50A5-4339-99F6-FD999542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70637-A966-48C5-92C2-F66442F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6E01B-477D-4562-8548-A5FBC89C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F0844-9392-4FA8-BC04-5E497ACF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BEA47-034B-451A-B162-E4049D4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B659B-204C-4DAF-A597-82127F2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A9FDC-B753-4550-B92B-F9188C96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4B1EC-C333-4535-B75B-55554B9E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227F-D1F0-4ABB-9F3C-187732F2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48830-2303-4AA4-8F4A-C95FE78F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97F8-706C-477F-9292-4A6843AA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5948-2682-48E0-809C-5BA0DAFF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B2BE-7AAA-4FE0-ABF7-6EFDAFD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C751-2213-4B02-9BE5-0E86EDC5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2BD4-FBD9-4BCF-9101-564CA29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4036-5C1B-436F-A3CD-4F096102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6A42-FF3F-48D9-BB30-1486B15C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F04E-C1C1-4C51-B552-FACF410C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3B2B-6D54-4657-93D4-1DCFFF6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86B8-8121-421C-BD5E-F7EBC4C0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F4C0-CBA8-49F5-BD41-09315104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5320-FD71-48AE-B624-9501C889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5162-7946-49AF-A25D-AD3E7897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6009-A014-451E-AC70-42B158E2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CF75-6DCE-4BCD-92EA-47FB25A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E7CA-537F-46E6-B738-0BFB7604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960D-039C-486B-8BB7-2409C700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B0BA-72FD-4BBB-A8F3-F2EFA03A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A963-9D4D-4095-B6AE-5883AD77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CE78-6875-4D61-887C-3162E398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E64E-0CEA-4355-8336-6C29A132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6454-225A-465C-ACD7-41D7748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457E-C34F-4E08-98BD-4777372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61D23-4670-4062-B442-23BAF88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D1E0-5C8D-4803-A96F-C4F5379F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285B-DD43-4F84-8AB5-252DFD5E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4B80-67ED-44F3-8C71-C7725AA9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152A-1746-47A3-8A1E-72A28446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A1BC-5890-4CC1-8F73-B33EEC0B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1B8F-747A-4EBB-8316-C9EEEBEB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BC7A-AA67-4E7A-814C-0E5D5F7B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5326-125A-4AFB-97CC-A6BD4F97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FD3C6-2540-4F17-ADB1-B3B7580A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2F4C-0B25-402A-91FC-0126F7BE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F148-5BCC-4826-86CE-6B211E3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1F7D7-9162-46B0-9ABE-B9FB406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9E82-F120-4ACB-9ABF-354530AC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A2DD-C278-4ECF-84F9-886BB39D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DB1C-80CB-49CA-9B05-F8D6B63D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A938E-F9EC-4C76-932B-CE5244CB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865D-348C-4F3C-AC58-554ED321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D08E-FDCB-4078-9AAC-9A8716FD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5DE3F-38E0-4267-A7CE-A1C197C4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55765-F6AC-4390-AF1F-5916E2CD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B3E78-8575-44B9-B30E-F051E9A0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2352-4FE9-47D6-8DC9-1A7C497F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A5FA9-B37A-450B-A64A-EC6CB32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1D70F-1042-402C-A820-8F086CC8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6D22-2324-4CCE-98CB-601A7F2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D7D4-3A95-4280-8936-07018534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9769-9F3D-4D0B-AE6F-9CD5B5DE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CFC0-CC9F-4E18-8C63-E50A71E7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A74B-F646-492F-9F78-3C91ACF8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8DF9-4E86-4002-BF49-73D341E4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D8EA-B51A-4BF1-96A7-5962DF0C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DBCD-BA6E-4C63-B942-4423083B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5221D-28D2-4024-9CE1-2B6F9413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5F0B2-2F54-47B6-893E-82DC7B2B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D638-FD5E-4874-AA47-02D5030D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C731F-9C0A-4553-84B4-F1408B0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AC90B-9478-4DC5-9447-72DADEB2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7502D-5773-4A15-A520-6DA17DB5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B3B7-8265-489C-8B59-57877D24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67AFE-DB52-4B84-8CB8-B4D57610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C49E6-BC49-4B03-A2C4-22F4175D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F9B2-0D50-43E6-A6A3-8B75ED24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629DB-A467-472E-BE82-C8E64FBB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64FA-4C35-4128-A2BD-A5D7598C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A71F-FECA-4351-B0C6-AE7DF442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BB762-3F65-44A1-A135-36DFA85C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38D0B-C83D-4427-A988-56E48870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F9FD1-DDB4-4DCB-8548-9E9FC294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3CC31-971C-4F5A-B779-B826FA4D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39B2-D5D1-42F8-BA82-3DBA182A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9872C-3D1C-4C06-9FE4-2B027A2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5A2E2-8579-47AE-B80F-5DEA2354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A1F04-6ECD-4D65-ACD0-6141E833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0A036-A1F0-4840-9C88-5AB8BF36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CD71D-F8CC-466C-A9AB-ED5C4259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D9514-0591-4E4B-8FD8-FDB8A23C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26B4F-B81C-40E4-B3E1-6F3E23AD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93F83-B917-4FF8-836C-A71E001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CCA06-2514-40ED-A35F-4692A2D2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09190-2B97-489E-BC88-862FC8FE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70C0-61E2-4FA0-862D-0CAAA02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E9576-81FD-4480-B2AE-A47D7699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AFFF7-FC11-4AE6-92CC-F847C26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5D55E-708E-4DAD-933C-996C76F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5B0FF-7415-4BA7-A7E2-0EFE1260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01046-7161-47A3-84EC-D1E822B5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F499-B288-4BCF-BB45-37026630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5D6C5-8A75-4DE7-BE87-7EB95161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1D6C1-C723-4E56-A8B8-40FE6F93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62E3D-064B-4CC6-B183-91E6065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FB5C9-42B8-4F2C-A3C5-DDB0603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046D-9C59-4919-A0B4-5FBFFA2C33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9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1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0F0C-3140-4DEB-AF47-9ECC62FB129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E3A7-BA5F-4A73-A68F-D0327AC42DA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9348-825A-4A72-A099-0C21F3E7BD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8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8870-E6D7-4316-AF92-83F265467B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4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3DE-612A-4AC9-8C93-64D301EF26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8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8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9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751-E671-441A-87B4-C9F03DC0C7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F56B-E4C9-4AEB-9EE0-B618CEDA2E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FE6-D028-4351-B3C6-AB963ACFC0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2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2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76A7-C0F4-4AFD-9EFA-738AA6D4092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Stencil"/>
              </a:rPr>
              <a:t>Factoring review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914400" y="4495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owcard Gothic"/>
              </a:rPr>
              <a:t>Walk through Chapter 9 with Factoring in Math A/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38188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ONGRATULATIONS!</a:t>
            </a:r>
            <a:br>
              <a:rPr sz="5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 made it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w, let’s look at the other piece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inding GCF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2128320"/>
            <a:ext cx="815328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How about the GCF fo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and  15xy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">
            <a:hlinkClick r:id="rId1"/>
          </p:cNvPr>
          <p:cNvSpPr/>
          <p:nvPr/>
        </p:nvSpPr>
        <p:spPr>
          <a:xfrm>
            <a:off x="457200" y="990720"/>
            <a:ext cx="8229600" cy="990360"/>
          </a:xfrm>
          <a:custGeom>
            <a:avLst/>
            <a:gdLst>
              <a:gd name="textAreaLeft" fmla="*/ 64080 w 8229600"/>
              <a:gd name="textAreaRight" fmla="*/ 8165520 w 8229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79432" h="21600">
                <a:moveTo>
                  <a:pt x="0" y="0"/>
                </a:moveTo>
                <a:lnTo>
                  <a:pt x="179432" y="0"/>
                </a:lnTo>
                <a:lnTo>
                  <a:pt x="179432" y="21600"/>
                </a:lnTo>
                <a:lnTo>
                  <a:pt x="0" y="21600"/>
                </a:lnTo>
                <a:close/>
              </a:path>
              <a:path fill="lightenLess" w="179432" h="21600">
                <a:moveTo>
                  <a:pt x="0" y="0"/>
                </a:moveTo>
                <a:lnTo>
                  <a:pt x="179432" y="0"/>
                </a:lnTo>
                <a:lnTo>
                  <a:pt x="178032" y="1400"/>
                </a:lnTo>
                <a:lnTo>
                  <a:pt x="1400" y="1400"/>
                </a:lnTo>
                <a:close/>
              </a:path>
              <a:path fill="darken" w="179432" h="21600">
                <a:moveTo>
                  <a:pt x="179432" y="0"/>
                </a:moveTo>
                <a:lnTo>
                  <a:pt x="179432" y="21600"/>
                </a:lnTo>
                <a:lnTo>
                  <a:pt x="178032" y="20200"/>
                </a:lnTo>
                <a:lnTo>
                  <a:pt x="178032" y="1400"/>
                </a:lnTo>
                <a:close/>
              </a:path>
              <a:path fill="darkenLess" w="179432" h="21600">
                <a:moveTo>
                  <a:pt x="179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032" y="20200"/>
                </a:lnTo>
                <a:close/>
              </a:path>
              <a:path fill="lighten" w="179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5800" y="1143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ATEST COMMO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" y="3657600"/>
            <a:ext cx="868680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number goes into both 5 and 15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biggest quantity of x and y in bo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057400" y="5105520"/>
            <a:ext cx="472428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CF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5xy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about COMMON FACTORING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Find the GCF and “pull that out to the front”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Comic Sans MS"/>
              </a:rPr>
              <a:t>How would you factor: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3x</a:t>
            </a:r>
            <a:r>
              <a:rPr b="1" lang="en-US" sz="2800" spc="-1" strike="noStrike" baseline="30000">
                <a:solidFill>
                  <a:srgbClr val="eaeaea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 + 18x</a:t>
            </a:r>
            <a:r>
              <a:rPr b="1" lang="en-US" sz="2800" spc="-1" strike="noStrike" baseline="30000">
                <a:solidFill>
                  <a:srgbClr val="eaeaea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1" name=""/>
          <p:cNvSpPr/>
          <p:nvPr/>
        </p:nvSpPr>
        <p:spPr>
          <a:xfrm>
            <a:off x="289080" y="3589200"/>
            <a:ext cx="82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38098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The GCF would be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ce you factor that out, your left with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62320" y="57150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(x+6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85800" y="380880"/>
            <a:ext cx="8458200" cy="99072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CTORING INTO TWO PARENTHESI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18288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CTORING PERFECT SQU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14x + 49        2.  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0y + 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358128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x + 7)(x + 7)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(y – 5)(y – 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x + 7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(y – 5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480" y="22860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CTORING DIFFERENCE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O SQU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3526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x + 6)(x - 6)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(y – 11)(y + 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6212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36                      2.  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FACTORING INTO</a:t>
            </a:r>
            <a:br>
              <a:rPr sz="3800"/>
            </a:b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TWO BINOMI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x +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2. 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y + 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90720" y="4114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x – 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4.  y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13y – 1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14400" y="2590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 + 5)(x + 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(y – 6)(y –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990720" y="4876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 – 4)(x + 3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(y + 14)(y –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762120" y="533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LVING QUADRA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520" y="1676520"/>
            <a:ext cx="83055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EPS TO SOLVE A QUADRA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late the quadratic and set =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to factor, either Common or Binom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each factor =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ve for each facto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’s practice one….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752480" y="1600200"/>
            <a:ext cx="6477120" cy="1066680"/>
          </a:xfrm>
          <a:custGeom>
            <a:avLst/>
            <a:gdLst>
              <a:gd name="textAreaLeft" fmla="*/ 69120 w 6477120"/>
              <a:gd name="textAreaRight" fmla="*/ 6408000 w 6477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31123" h="21600">
                <a:moveTo>
                  <a:pt x="0" y="0"/>
                </a:moveTo>
                <a:lnTo>
                  <a:pt x="131123" y="0"/>
                </a:lnTo>
                <a:lnTo>
                  <a:pt x="131123" y="21600"/>
                </a:lnTo>
                <a:lnTo>
                  <a:pt x="0" y="21600"/>
                </a:lnTo>
                <a:close/>
              </a:path>
              <a:path fill="lightenLess" w="131123" h="21600">
                <a:moveTo>
                  <a:pt x="0" y="0"/>
                </a:moveTo>
                <a:lnTo>
                  <a:pt x="131123" y="0"/>
                </a:lnTo>
                <a:lnTo>
                  <a:pt x="129723" y="1400"/>
                </a:lnTo>
                <a:lnTo>
                  <a:pt x="1400" y="1400"/>
                </a:lnTo>
                <a:close/>
              </a:path>
              <a:path fill="darken" w="131123" h="21600">
                <a:moveTo>
                  <a:pt x="131123" y="0"/>
                </a:moveTo>
                <a:lnTo>
                  <a:pt x="131123" y="21600"/>
                </a:lnTo>
                <a:lnTo>
                  <a:pt x="129723" y="20200"/>
                </a:lnTo>
                <a:lnTo>
                  <a:pt x="129723" y="1400"/>
                </a:lnTo>
                <a:close/>
              </a:path>
              <a:path fill="darkenLess" w="131123" h="21600">
                <a:moveTo>
                  <a:pt x="131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723" y="20200"/>
                </a:lnTo>
                <a:close/>
              </a:path>
              <a:path fill="lighten" w="131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5x = 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52480" y="2743200"/>
            <a:ext cx="6477120" cy="1066680"/>
          </a:xfrm>
          <a:custGeom>
            <a:avLst/>
            <a:gdLst>
              <a:gd name="textAreaLeft" fmla="*/ 69120 w 6477120"/>
              <a:gd name="textAreaRight" fmla="*/ 6408000 w 6477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31123" h="21600">
                <a:moveTo>
                  <a:pt x="0" y="0"/>
                </a:moveTo>
                <a:lnTo>
                  <a:pt x="131123" y="0"/>
                </a:lnTo>
                <a:lnTo>
                  <a:pt x="131123" y="21600"/>
                </a:lnTo>
                <a:lnTo>
                  <a:pt x="0" y="21600"/>
                </a:lnTo>
                <a:close/>
              </a:path>
              <a:path fill="lightenLess" w="131123" h="21600">
                <a:moveTo>
                  <a:pt x="0" y="0"/>
                </a:moveTo>
                <a:lnTo>
                  <a:pt x="131123" y="0"/>
                </a:lnTo>
                <a:lnTo>
                  <a:pt x="129723" y="1400"/>
                </a:lnTo>
                <a:lnTo>
                  <a:pt x="1400" y="1400"/>
                </a:lnTo>
                <a:close/>
              </a:path>
              <a:path fill="darken" w="131123" h="21600">
                <a:moveTo>
                  <a:pt x="131123" y="0"/>
                </a:moveTo>
                <a:lnTo>
                  <a:pt x="131123" y="21600"/>
                </a:lnTo>
                <a:lnTo>
                  <a:pt x="129723" y="20200"/>
                </a:lnTo>
                <a:lnTo>
                  <a:pt x="129723" y="1400"/>
                </a:lnTo>
                <a:close/>
              </a:path>
              <a:path fill="darkenLess" w="131123" h="21600">
                <a:moveTo>
                  <a:pt x="131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723" y="20200"/>
                </a:lnTo>
                <a:close/>
              </a:path>
              <a:path fill="lighten" w="131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5x – 66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752480" y="3962520"/>
            <a:ext cx="6477120" cy="1066680"/>
          </a:xfrm>
          <a:custGeom>
            <a:avLst/>
            <a:gdLst>
              <a:gd name="textAreaLeft" fmla="*/ 69120 w 6477120"/>
              <a:gd name="textAreaRight" fmla="*/ 6408000 w 6477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31123" h="21600">
                <a:moveTo>
                  <a:pt x="0" y="0"/>
                </a:moveTo>
                <a:lnTo>
                  <a:pt x="131123" y="0"/>
                </a:lnTo>
                <a:lnTo>
                  <a:pt x="131123" y="21600"/>
                </a:lnTo>
                <a:lnTo>
                  <a:pt x="0" y="21600"/>
                </a:lnTo>
                <a:close/>
              </a:path>
              <a:path fill="lightenLess" w="131123" h="21600">
                <a:moveTo>
                  <a:pt x="0" y="0"/>
                </a:moveTo>
                <a:lnTo>
                  <a:pt x="131123" y="0"/>
                </a:lnTo>
                <a:lnTo>
                  <a:pt x="129723" y="1400"/>
                </a:lnTo>
                <a:lnTo>
                  <a:pt x="1400" y="1400"/>
                </a:lnTo>
                <a:close/>
              </a:path>
              <a:path fill="darken" w="131123" h="21600">
                <a:moveTo>
                  <a:pt x="131123" y="0"/>
                </a:moveTo>
                <a:lnTo>
                  <a:pt x="131123" y="21600"/>
                </a:lnTo>
                <a:lnTo>
                  <a:pt x="129723" y="20200"/>
                </a:lnTo>
                <a:lnTo>
                  <a:pt x="129723" y="1400"/>
                </a:lnTo>
                <a:close/>
              </a:path>
              <a:path fill="darkenLess" w="131123" h="21600">
                <a:moveTo>
                  <a:pt x="131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723" y="20200"/>
                </a:lnTo>
                <a:close/>
              </a:path>
              <a:path fill="lighten" w="131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x – 11)(x + 6)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752480" y="5257800"/>
            <a:ext cx="6477120" cy="1066680"/>
          </a:xfrm>
          <a:custGeom>
            <a:avLst/>
            <a:gdLst>
              <a:gd name="textAreaLeft" fmla="*/ 69120 w 6477120"/>
              <a:gd name="textAreaRight" fmla="*/ 6408000 w 6477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31123" h="21600">
                <a:moveTo>
                  <a:pt x="0" y="0"/>
                </a:moveTo>
                <a:lnTo>
                  <a:pt x="131123" y="0"/>
                </a:lnTo>
                <a:lnTo>
                  <a:pt x="131123" y="21600"/>
                </a:lnTo>
                <a:lnTo>
                  <a:pt x="0" y="21600"/>
                </a:lnTo>
                <a:close/>
              </a:path>
              <a:path fill="lightenLess" w="131123" h="21600">
                <a:moveTo>
                  <a:pt x="0" y="0"/>
                </a:moveTo>
                <a:lnTo>
                  <a:pt x="131123" y="0"/>
                </a:lnTo>
                <a:lnTo>
                  <a:pt x="129723" y="1400"/>
                </a:lnTo>
                <a:lnTo>
                  <a:pt x="1400" y="1400"/>
                </a:lnTo>
                <a:close/>
              </a:path>
              <a:path fill="darken" w="131123" h="21600">
                <a:moveTo>
                  <a:pt x="131123" y="0"/>
                </a:moveTo>
                <a:lnTo>
                  <a:pt x="131123" y="21600"/>
                </a:lnTo>
                <a:lnTo>
                  <a:pt x="129723" y="20200"/>
                </a:lnTo>
                <a:lnTo>
                  <a:pt x="129723" y="1400"/>
                </a:lnTo>
                <a:close/>
              </a:path>
              <a:path fill="darkenLess" w="131123" h="21600">
                <a:moveTo>
                  <a:pt x="131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723" y="20200"/>
                </a:lnTo>
                <a:close/>
              </a:path>
              <a:path fill="lighten" w="131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= 11   or    x = 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x + 20                       2. 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17y = 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90720" y="259092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 right, work them out…… Get your answers, then I’ll post them below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143000" y="4876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x = 5 or x = -4              2.  y = -15 or y = 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3:42:35Z</dcterms:created>
  <dc:creator>tgiannicchi</dc:creator>
  <dc:description/>
  <dc:language>en-US</dc:language>
  <cp:lastModifiedBy>Mark Carls</cp:lastModifiedBy>
  <dcterms:modified xsi:type="dcterms:W3CDTF">2008-02-28T21:59:55Z</dcterms:modified>
  <cp:revision>34</cp:revision>
  <dc:subject/>
  <dc:title>Factoring review!</dc:title>
</cp:coreProperties>
</file>